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BAA-46B7-439C-A6BD-52DE4F01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8BC-0A02-4254-BEB7-1132474C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95EDF-F9D3-41E7-BFFE-B4A647FE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79655-F3E1-405D-9D27-8123F72B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6D80B-1616-4F2B-BDFB-C31DA2E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05368-58ED-4AE3-A037-96B06BD5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15A66-1FA0-4381-81D5-E25F4BBA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1C4AF-C833-4BAE-81A5-78E991C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77411-96BB-4FB8-8DF2-FA62F7A7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D2D8D-3CC1-4C90-818D-F32E61E0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82016-A0F0-43B1-94A7-AF92D6D2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09089-F7C2-416E-A9FE-E7BBFCB3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642-E7BF-4C91-A095-B8033F24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733BA-9134-4EE9-A040-FCB82476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66D0D-FD2C-40A1-87CF-2E8E43E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57193-3BE2-4ECB-8669-9F3F2479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EE5FD-511A-4D14-A6FC-ECAF6415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13211-07DD-475C-AF15-BF02C8A3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97669-8185-4035-8EA8-204DE2EF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B20B-F034-4AD4-8FF1-CB0F6FB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2EC23-CAC3-419C-9ABE-BAEFDE8A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EE184-2CC9-472B-8268-27AA804C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3D1FC-3B2A-420B-9FE6-E1774073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94E-8C9B-49BA-A268-BB489710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EB6F1-E6B3-4618-8942-23031A71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8CCDD-9EFF-466C-BD01-119F14B5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AABE2-E981-4FC4-84F8-8A97A32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0F81E-FF23-4EC5-B5B1-46697E40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C8B52-417D-4565-8C88-D4E5BBC4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B1FA-49BE-4B45-9B75-C0A2E0CB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47C35-BF81-4326-97F9-223209EC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C6AA2-85C7-47A8-9F2A-9AA67740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98106-CADE-45DA-AABC-18E2960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D4072-5AA4-46F3-B35A-CA6A21D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FB56-73C0-4E92-B72D-44802225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5655A-ED85-4271-9630-D67B0E50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327B-8799-4A2D-8953-0642EEB4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F6802-E3B0-489B-8A4E-0D1CEFC5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8D3DD-32DC-4E90-BBE0-FF926DD8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7316D-1A02-4268-8456-C47D09A7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066EA-93CD-4586-94DB-DC5EBBE7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A9BE8-CF62-4323-972A-B14CCE04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F3692-110E-4F08-B63C-51EF5FE1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35664-A816-4B7F-8D70-59C615E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6A0E7-C4A1-4378-ACF5-25C4B2E6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B4D0-BB95-4797-B195-EF05D779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2DE7B-4206-4426-8804-E36DB972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4C6DB-62DD-4046-A43F-4946C0D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173B4-5401-4FC1-975E-BEAFDB13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0A64A-9893-4680-A042-B59F1169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22D68-242D-4339-8776-8A0B6F2F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BEA38-FD34-4878-9E51-26FD37D4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616A2-3E4B-4D58-A83E-F8FDBBE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E343A-15C1-49B0-96BC-47C87323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C8BA9-C901-439D-AD8D-4AE1B0A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B3520-C9AA-4163-AC68-58801A34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70F1-5A88-4557-9773-32A0B389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CF621-53AD-4541-B69E-A0590E72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2CF10-5371-4BE3-8F4F-7C11F52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145CA-4C2E-42A9-96DC-0A84A4D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C141F-208F-4807-B9EB-9D0C660E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607AF-8B31-4719-97EC-F6660A9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075BD-1F9E-4560-80B3-7DB1770F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12884-7FE5-40BE-8C88-30DF6AA2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8855C-5625-4E8C-A5C9-3AC0E23D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117B2-4C16-4D69-9F43-7D0EC73B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6487E-39EE-408C-B0F9-8490F498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E222-C33B-41F9-BDC4-07071A12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A0FAD-C95B-4511-985B-9BB30DDE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0BB31-1946-4335-A7A5-C5103491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6F052-81D8-49C8-97FD-02F22561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39DBB-0D22-42A4-BBC0-C8EBB4B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2EB9D-D4CC-436E-BEE1-64DA2EFA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FCA39-2841-4417-9E39-E58102B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D977F-B5D2-48BE-A554-B19E1EAE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8802C-242D-409F-9D93-99BD3FDA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F2E68-FE58-4E33-98EF-FE473673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368D7-2C0C-4F76-9D9E-7EB146E7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A12A-85ED-4D08-90E7-D9BC69F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6B55A8-E446-4E7B-AF84-53375C50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4A5BA-47B4-4A32-A65C-A18E80E6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92A66-2E7E-40BA-9018-8BB14297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A023B-AE34-4684-82F7-BE4E655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F17B9-527D-4472-B62C-8BA6FE18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24627-090A-43F3-B905-81D799E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2EC8B-3597-468B-AAAE-519F6D3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62B1A-ED6F-4194-8866-09F885F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5AD21-B3F1-4ADB-818E-CBE9FF42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4FF0F-0CD9-4679-905A-E1FDA902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F8F8-8801-4A24-BE1B-853EFB73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49EC3-5DF1-4EED-9BCA-49C5F3E8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13155-B6BE-4F35-8B9B-93079FFF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1574E-E1DE-4027-9B2D-ADBAFBDE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F8FB1-5C7F-4A9E-8B01-C213E779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427FD-D852-4851-8533-44D451F6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7BA4D-926A-4AB1-B96F-927D700F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A1993-696E-4EFF-81F3-50AB478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6928A-DE6A-452F-BDBF-82AA898D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39FB3-6E16-4E39-AB82-544FE54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6381D-052F-48C7-8AF8-2FDA4C6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7EAA-BB04-41AD-BF15-C240C66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6A67FE-DCDC-415D-94A4-365EDE5B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6206B-CD8D-4923-9D55-952073F2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289AF-04B8-4F8E-A162-2EFFC11D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B0252-ADEB-4D15-B367-E67E54FD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72828-96AD-4B43-8B93-FC5D1B62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C9032-7154-4A63-913F-04EAF1D5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5AEF0-AB9C-4C84-8393-E8587CC7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5C78F-79F3-478E-95CA-29D5DCEC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C1FF1-D849-4EA7-B6DA-A783580C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9C531-41E2-487F-9CFF-9244225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DC1-FD51-4F18-81D3-0FF09822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050B-0D08-4EA7-A48C-5F0336F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45027-52C4-473D-A164-F95B07B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84672-B9BA-4C7D-AE67-55FA275A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0E7CE-BAF6-4BE5-9E4B-CB74373D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70832-B2C6-4709-B0AA-AA016A46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27D47-07DF-4472-A962-E9B9CDFB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DEE3F-F5CE-4E53-A03D-36B9C5DE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8E1F5-DF79-4388-AB2C-A6BA22D7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B75B7-638B-41A8-AF4E-7F20888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BF2A1-BE08-4421-98F5-76C5439E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8D2AB-AE35-423B-86E3-6F829EAE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EEE8-0591-4242-8694-E6C6F60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1B2F1-08C2-4233-A2E7-36A1D45A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7B2A0-2285-4309-899C-B7C99168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26D3E-7A09-44D3-B4D5-73A16C8A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9240E-D75F-4241-8654-2BFBAAF8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BF8DE-50E8-4A0F-937F-29CC66C3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56B5DD-8E63-4856-B11A-41370BB2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FFE375-1815-414D-9803-96D8E958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D370A4-C29A-4D90-98F2-4C43228B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03541-3AA3-450D-ABA4-FB064F9C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4BFF7-35EC-493D-85F9-E167157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356A-C8B9-41B7-B2C9-0BDA3892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A0D3C-D379-4EF5-9DC5-E52FDE7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28903-E4CC-4C3F-8F69-1F22B4A9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470168-446F-44BA-9CCF-B4FE2963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D40D6-E6FF-4B50-8729-1A42DEA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57BA6D-07E4-4B2F-A5E6-F6F58E6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1CD1A-1835-44ED-99B1-21BEA645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53E2B-BB0D-451A-9F18-797417E0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B363E-7D83-4A33-A238-62400DA8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5D5B9-FF98-407A-A2A6-CCF8458F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AD637-8B3A-42DF-8362-3804B0F8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B975-2A19-4D19-8BC1-F11E13F8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8A4CE-352A-4587-BB46-01C3B02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D4A0F-A719-49D4-B307-59E8532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1618A-7BD1-4AFA-9DA7-F9406FCC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9982B-2794-4C1B-86A4-E31B0D20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DCC98-4008-44EA-B87F-B9A938CE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E3CFE0-65E8-412F-A4B0-D6C8763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07E60-A8FF-4B29-B696-3C73B3C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E594C-64F5-400A-956D-2786F39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B66F70-A94A-4A66-8BF4-E5F0CD1F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A4F17-2EE5-4F8E-945C-781529CA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6444-0745-4101-99C2-C1AA1FB6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4C64E-8F13-4B53-9988-4B0EA7F0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15512-CDF2-4BD7-A571-AC2DB17C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91164-376D-456F-8FA5-C4235588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C7326E-A74F-491E-94B3-5D25AAA3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1985A-29B3-440D-AFB7-EF868054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A911A-5B80-4E4A-9B57-3CF1D62C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E3357-477F-4F11-938D-BB92403C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C38519-553C-48D4-B0B3-E4E2F41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C34A2A-2E45-4020-A38E-8A4842A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294ED-A6D2-4840-8F0F-5F8CDC1D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CDE8-1FB8-4D63-9640-A6751880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CE94A-E104-4296-AB6A-CDBAB5D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CDB9D-0E88-4B1D-BBC7-95254AAF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6DE8E-61C8-4E88-9C48-062F0CA3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72F6-D48C-465C-AE44-3080B7F9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0421-EAFF-4689-BDFD-CED04432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B5C3-0DEC-4EBA-AB41-EFE28F0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7053-783E-422C-9713-0255C7FA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DAB-7148-42E3-AB5B-0E89D00F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9F02-9B65-450E-8086-329B2A2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BA5B-E74F-41BF-A160-E5A55E1D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6131-E3B3-403B-933C-664A71A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46E9-E63A-44B7-90CB-16BBDCE9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753C-D50C-475B-AE30-2A7CE225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C6E0-3CF8-48C0-AE4B-518A1F28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1275-E1EC-41AA-9DBF-BEB0B1BE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0AD1D-4C9B-4433-BB27-C09B1296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F491-A46E-4172-93F9-D9301F4E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91E5-E612-4399-AA22-84BCE7C7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477-B27D-4743-9F2B-58CF258F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CF55-7246-4782-B203-FB69DD29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8319-7DE0-4ECA-8BC3-CFFE669A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9922-5860-4ACE-9DD2-1E08D00F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D295-89F8-4694-9E93-8900044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78EE8-BFC3-41E2-900D-6FD50AED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9E1E-4E68-4312-ABA9-4EF44CFE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80AB-E2F9-4E43-8FE4-24B09A21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4586-3032-49B7-B5CE-EE75D53C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6045E-8015-48B6-BE9A-3ECE83AC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3A52-C027-45D6-B6F0-08B98894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AAD-9BFA-438E-86A6-E6BAF930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9B9C-4AF3-442F-A431-23778390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BF3F2-6B9A-4BF6-A154-A13CCD8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7673-F95C-488B-BD03-F77B1FCA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9DA8-0A7F-49EF-96ED-CE7D31F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B50C6-548A-41EC-94BB-0A9327F9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0C92-93D5-41EB-A125-9FA5E75E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E150-BF76-4820-83AC-128D7B5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3A47-B4E5-47D8-85D5-F1270BB3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BA9AA-B855-4C98-B0C9-2829438A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8E46E-233E-4B33-8DA8-C5004A75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C7A-2447-41C8-9713-4E5A88DC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F446-1B7D-4DA6-8386-6A95F327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1A67-D887-4290-B543-E1212B2F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51D23-1494-498F-84D7-1E378552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CC722-51E4-4E5B-8263-F11D8BD2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75AEE-E1D3-4584-A758-D26EDD34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5FAA5-C7C7-4314-8088-25523C07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8C70D-71F3-4BBD-8B8A-E5093E31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9C2A5-60C1-4019-B7B4-C9A9BE3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D426-ED80-453E-8D01-BF6348FB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4FCF-E781-46D8-9714-DB0CCE5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D36-94F2-459B-AC3D-15E9447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3658-7EC4-4C83-A30D-8EDC20B6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03682-F1A4-4D5C-ACBF-5F72B2AD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1C1F0-1550-4B22-8523-6ECEDB4D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7858D-CC34-47C0-BA7A-FBE108E0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6D7DC-09E7-4E56-A55A-E050566F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75E6E-C363-46C7-9771-912A968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AEFE4-351D-491C-8F3C-B4C85E4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4C71-75CD-4D05-BFC5-9644A07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EDA3-88FF-4FB6-8207-97EAED4C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76F0-02C2-4C00-81C6-52A0C7C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9BA-429C-4018-9A24-1EA1E81C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08AA-FE90-4AAE-BB63-3C3C2B7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97A0B-A743-4A95-AAE4-29BEE96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C902D-3276-49FB-9436-60B4FB7E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205C7-8BE9-4354-B9CF-1C62EEDE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D834E-4D63-4731-BCD1-0187A2FD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618CC-2595-493F-85DE-CDF4A94E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4F8F-9383-48D1-BB0F-15D6E25C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D34A3-55F5-4DAF-8B99-9358DB0C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CAAA-E2F2-4289-AEEC-8E480612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5850C-EE84-419A-A0D1-B45C6E96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A08-79FC-4730-9165-578B345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5FA6-A84A-46E4-A231-1185D0DA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34D7F-23ED-4646-9CE7-DD21EE56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F4476-B74A-4D34-9C63-721F72A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F2C74-BAF8-434E-B7E5-88F9B3EE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7E83F-42F3-46EA-A515-2062E419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755F-D078-4333-91C2-1167EFB3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F475-94BC-4FC6-B09D-ACAD51FA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66CAA-11A9-4F80-8953-A5CB7B20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4E388-1B57-41D0-9093-8AB388FB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BD60F-C048-45FE-94E1-D61385D2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C9D2-DC9B-4EFA-8CB1-D8C636564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FFAF-C991-4ABB-A9EA-484546AE23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7D34-4CA0-40AF-A7BB-65FF8D58C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764C-3450-4E25-8F98-5593F9C8E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D04A-B551-4B06-B6F6-778D47230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0DAA-0C48-438A-B00F-98D21400D4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8DFB-9EF6-4090-9325-087123724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1A48-33E2-4F66-91E1-A34D7BB207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305-E9A2-4F28-8041-0DF0AF4228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B802-D9C8-4C9B-8FD6-9064CC2FE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7D13-C760-45D8-A0AB-09B3E2B43E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0FBE-32E5-40FC-9954-54F85FBB0A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7038-4AF9-41C2-916A-5A8A85B8A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5E03-363C-4D6D-A887-4D5295F741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29FA-B43F-4A38-90B5-837AD098C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FE2-D250-44F1-9FA7-B8473B497F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05DF-24F5-4C83-B7AC-D4D66E885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FEC1-8ED3-4A5D-AE9C-3A769CEA92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C4D1-5ECB-45F7-AD86-E661FC54DA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9FF2-D89B-4090-81E1-98F4C5FBA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5B9A-58A6-4094-A1A2-AC127EF890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ECE9-18FC-4432-B9C2-99DF02D41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805-9FEC-445F-BF2C-56A137D8E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8048-49B8-47BF-83A2-3E034B2DEF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4F3E-7B2C-4D9F-87FE-7801F54A9A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DCB2-51C2-4115-AAA1-260D7C8A6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4FF7-C42C-42E8-A971-20EF31F383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0FF7-BD56-470C-A029-D768EF4563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9D8D-D982-4B05-B924-233E7F8B9D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D1C8-D7E0-40D8-BFB3-4C4F7BD8D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55C4-6121-43BC-BE42-8991B0BE82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A20-12C9-474C-A4F6-EA6C02E88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BE5-4359-47FC-8DD2-F8BF64C7D1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8DDC-805D-45C2-935C-DD4E9735E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84A3-EDC1-4BA9-B7C1-372852FBF1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DEBF-7F27-48DD-9B12-49A235501D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7F1B-1C5C-42C8-B48A-79A6FEDBAB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F95E-5BA8-4B08-A977-DFEABF801E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23E9-7DA0-4BC5-BD1B-25361D6BB0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270-EEDE-43E0-A223-3235F00C8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24080" y="2933640"/>
            <a:ext cx="2895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1071720" y="1197000"/>
            <a:ext cx="7000560" cy="219060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9634" descr=""/>
          <p:cNvPicPr/>
          <p:nvPr/>
        </p:nvPicPr>
        <p:blipFill>
          <a:blip r:embed="rId2"/>
          <a:stretch/>
        </p:blipFill>
        <p:spPr>
          <a:xfrm>
            <a:off x="504720" y="3573360"/>
            <a:ext cx="8134560" cy="22291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370400" y="155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24720" y="146988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197240" y="233352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524720" y="226224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1849320" y="386064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003640" y="384660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158320" y="384660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2036880" y="4724280"/>
            <a:ext cx="576000" cy="7351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5003640" y="471024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956720" y="4710240"/>
            <a:ext cx="57600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433600" y="2433600"/>
            <a:ext cx="42768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85800" y="674640"/>
            <a:ext cx="7772400" cy="6067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635280" y="2637000"/>
            <a:ext cx="187344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348000" y="4321080"/>
            <a:ext cx="187344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276720" y="5172120"/>
            <a:ext cx="187308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276720" y="6021360"/>
            <a:ext cx="187308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084720" y="1773360"/>
            <a:ext cx="187344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867280" y="6021360"/>
            <a:ext cx="230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71440" y="798480"/>
            <a:ext cx="8601120" cy="5943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55640" y="3587760"/>
            <a:ext cx="676908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676908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539640" y="4869000"/>
            <a:ext cx="676908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68360" y="5516640"/>
            <a:ext cx="676908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468360" y="6164280"/>
            <a:ext cx="6769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299880" y="757080"/>
            <a:ext cx="8544240" cy="5696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116000" y="3557520"/>
            <a:ext cx="6985080" cy="951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84360" y="466740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68360" y="531504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468360" y="5964120"/>
            <a:ext cx="482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90520" y="281160"/>
            <a:ext cx="8562960" cy="6295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71640" y="352908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395280" y="46101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324000" y="509904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539640" y="5603760"/>
            <a:ext cx="842508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539640" y="6165720"/>
            <a:ext cx="7993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309600" y="1028880"/>
            <a:ext cx="8524800" cy="4800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2795760"/>
            <a:ext cx="4608720" cy="863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826920" y="3745080"/>
            <a:ext cx="360072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826920" y="4292640"/>
            <a:ext cx="360072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755640" y="4797360"/>
            <a:ext cx="468000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684360" y="5315040"/>
            <a:ext cx="4679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304920" y="809640"/>
            <a:ext cx="8534160" cy="57150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187280" y="2506680"/>
            <a:ext cx="33134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2560" y="3083040"/>
            <a:ext cx="3313080" cy="8506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0" y="4091040"/>
            <a:ext cx="4429080" cy="850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684360" y="5013360"/>
            <a:ext cx="3313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539640" y="5545080"/>
            <a:ext cx="84250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826920" y="6064200"/>
            <a:ext cx="2665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623880" y="2143080"/>
            <a:ext cx="7896240" cy="2571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064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6:3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